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93CD-26F2-4C7B-AC7A-D7D31FFE4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8A1D-0B4E-4B25-83DD-CF97942D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BFF58-819D-4BC5-965C-A7CD2EDAD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14B8-7777-4473-B159-6A1BB069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B3B4-F64C-4F31-82E4-D758A551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CC618-6366-425D-9D3B-2DBC4657B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955E-FF70-4E93-98C2-828E08424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04B0C-714F-473C-B951-E6CFC83DF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A30CA-14D4-4383-972A-A72DDBA13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F87EF-7094-4F55-9A76-A490B65D7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14396-1E10-444D-A538-0B5ED2719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12BA8-5531-4892-B2A3-3CF566EC3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FDC6-7CBE-469F-A5E2-43DF0783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95E2E-7652-49C7-A669-9B3ECCE4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0E92-AD43-47DC-8C06-7915EA778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F5C42-9D7C-4913-AD77-D7F29453E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E5C7C-9306-4005-93E8-78DC3F503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1CC8-768C-45D2-8403-FCD8CD4A7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0F079-66A7-40AF-BAE4-416731217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9402-6C3F-4B81-B91B-EF8ED606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59EB-94BF-405A-A57E-F1FA9B3CA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3C16-AF89-47AE-91BE-8C1BC3AFF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AC4-6C3A-47B5-8C22-AFD39860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1DCF-D186-4AD2-840D-D71080848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036D-65A4-4AFE-B61A-0AFA55711801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7D8D-8B2A-4FD0-A495-B2FC2A61CF7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365120"/>
            <a:ext cx="8242200" cy="20545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Active Listening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Mary Ann Hebert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2" name="Acrive Listening Skills.asx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78920" cy="14396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sked what you want for an allowance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re told your grade on a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BIG TEST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r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favorite s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ng is on the radio or your I-pod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sixth ste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1" name="Listening Actively in Class - steps.asx" descr=""/>
          <p:cNvPicPr/>
          <p:nvPr/>
        </p:nvPicPr>
        <p:blipFill>
          <a:blip r:embed="rId2"/>
          <a:stretch/>
        </p:blipFill>
        <p:spPr>
          <a:xfrm>
            <a:off x="2971800" y="2438280"/>
            <a:ext cx="4114800" cy="3086280"/>
          </a:xfrm>
          <a:prstGeom prst="rect">
            <a:avLst/>
          </a:prstGeom>
          <a:ln w="0">
            <a:noFill/>
          </a:ln>
        </p:spPr>
      </p:pic>
      <p:pic>
        <p:nvPicPr>
          <p:cNvPr id="112" name="Listening Actively in Class - steps.asx" descr=""/>
          <p:cNvPicPr/>
          <p:nvPr/>
        </p:nvPicPr>
        <p:blipFill>
          <a:blip r:embed="rId3"/>
          <a:stretch/>
        </p:blipFill>
        <p:spPr>
          <a:xfrm>
            <a:off x="1542960" y="1884240"/>
            <a:ext cx="697248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14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r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favorite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movie or television show is o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re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starving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and when you ask what’s for dinner they tell you your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all time FAVORITE FOOD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stener is looking at the face of the speaker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stener shows by their body language that they care about what the person is talking about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listener asks appropriate questions at the appropriate ti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identify with examples the difference between hearing and active listen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demonstrate the attributes of an active listener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o identify one attribute of an active listener that the student needs to practic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e active listener gives feedback both verbal and nonverbal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eachers – students from different cultures may view the physical aspects of active listening as impolit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ye contact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uestioning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Students –if you come from a different culture – explain  and educate – if it works for you and you are actively listening, how you present yourself is not 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wrong.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Active Listening and Conflict.asx" descr=""/>
          <p:cNvPicPr/>
          <p:nvPr/>
        </p:nvPicPr>
        <p:blipFill>
          <a:blip r:embed="rId2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0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" dur="1" fill="hold"/>
                                        <p:tgtEl>
                                          <p:spTgt spid="1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2" name="Teachers_as_Active_Listeners -to students.asf" descr=""/>
          <p:cNvPicPr/>
          <p:nvPr/>
        </p:nvPicPr>
        <p:blipFill>
          <a:blip r:embed="rId2"/>
          <a:stretch/>
        </p:blipFill>
        <p:spPr>
          <a:xfrm>
            <a:off x="2809800" y="2048040"/>
            <a:ext cx="3524400" cy="27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26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9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Choose one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artoon showing an active listener and one who is just hea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kit showing an active listener and one who is just hea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wo paragraphs, one which identifies qualities of an active listener and the other paragraph identifying the qualities of someone who is just hear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" name=""/>
          <p:cNvGraphicFramePr/>
          <p:nvPr/>
        </p:nvGraphicFramePr>
        <p:xfrm>
          <a:off x="380880" y="1189080"/>
          <a:ext cx="7925040" cy="5521320"/>
        </p:xfrm>
        <a:graphic>
          <a:graphicData uri="http://schemas.openxmlformats.org/drawingml/2006/table">
            <a:tbl>
              <a:tblPr/>
              <a:tblGrid>
                <a:gridCol w="2692440"/>
                <a:gridCol w="2691000"/>
                <a:gridCol w="2541600"/>
              </a:tblGrid>
              <a:tr h="699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Five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Three Point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One Poin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dentifies qualities of an Active Liste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dentifies some qualities of an Active Liste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dentifies one quality of an Active Listen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dentifies qualities of a person who is just he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Identifies some qualities of a person who is just he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Identifies one quality of a person who is just he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22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hows through cartoon, skit or  written response their understanding of the differences between  active listening and he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Book Antiqua"/>
                        </a:rPr>
                        <a:t>Shows some understanding through a cartoon, skit or written response  the difference between  active listening and just he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de6d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Book Antiqua"/>
                        </a:rPr>
                        <a:t>Shows through a cartoon, skit or written response little or no idea of the differences between active listening and hearing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  <a:tr h="69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Book Antiqu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eb96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228600" y="1447920"/>
            <a:ext cx="8229600" cy="4525920"/>
          </a:xfrm>
          <a:prstGeom prst="rect">
            <a:avLst/>
          </a:prstGeom>
          <a:noFill/>
          <a:ln w="9360">
            <a:solidFill>
              <a:srgbClr val="ceb966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in the Charlie Brown cartoons, adults are talking to Charlie Brown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9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RING IS BIOLOG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8540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re hungry, lunch is soon, and the teacher is talking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RING IS BIOLOG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re tired and the teacher is talking about homework and you just want to go home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RING IS BIOLOG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you are watching the ending of the best movie and someone asks  you to take out the garbage several times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RING IS BIOLOG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omeone asks you, several times,to take out the garbage and it smells!!!!!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Why?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EARING IS BIOLOGICA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7T15:50:05Z</dcterms:created>
  <dc:creator>MaryAnn Hebert</dc:creator>
  <dc:description/>
  <dc:language>en-US</dc:language>
  <cp:lastModifiedBy>MaryAnn Hebert</cp:lastModifiedBy>
  <dcterms:modified xsi:type="dcterms:W3CDTF">2009-02-19T17:05:45Z</dcterms:modified>
  <cp:revision>45</cp:revision>
  <dc:subject/>
  <dc:title>STUDY SKILLS</dc:title>
</cp:coreProperties>
</file>